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C512-940D-4391-8D0A-A075B958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13D2-90ED-471A-8244-67FA8F6D9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A8A4-4513-464B-B5A4-7461B078C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2D4C-1397-4C1F-BF00-41EB5BC7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DC64-7001-4012-8FD8-6C6F9C9D2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8285-2653-44A7-9E1D-87744617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40C3-A223-4CB9-A2B7-54849DF1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C141-F4D4-422C-9E09-77B4E58F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3694-576D-4823-BB28-63AF27AA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40C-ACDE-4115-B209-28C765BC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BBC-B6C2-42EA-B8C1-77CCD90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9AF-B447-4B06-85F6-AB8BC5BD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AA5-8BF3-4063-95E2-68D27FD3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E29-A13F-4E81-8D83-0D10E49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950-51E8-415B-843B-A22840D6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63F-A53B-407C-B07C-478F6171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2F0-3C41-4EB7-A546-3181167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350-BAB1-4CD7-9D0B-AAD7E92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770-06D5-4D1D-B6B7-B78AC7A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91F-2941-4F9E-B7D0-B22BF9B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512-20B7-46C4-BB03-047B2EC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955-4B7D-4C51-BDFC-BCEC1211A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lton (Tony) Earl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cipal Investigat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SE: Child Health and Social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Spatial maps of homicide and low birth weight in 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Concept of “Collective Efficac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Measurement of Collective Efficac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llective Efficacy Across 343 Chicago Neighbor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Dimensions of social organization and functi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Interactions in families and communities in adolescent sexual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Significant outcomes from seeing Young Citizen skits i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219320" y="6400800"/>
            <a:ext cx="6553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52900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533520" y="762120"/>
          <a:ext cx="4041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4041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4"/>
          <p:cNvSpPr/>
          <p:nvPr/>
        </p:nvSpPr>
        <p:spPr>
          <a:xfrm>
            <a:off x="268596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4724280" y="838080"/>
          <a:ext cx="36687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838080"/>
                    <a:ext cx="3668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Line 7"/>
          <p:cNvSpPr/>
          <p:nvPr/>
        </p:nvSpPr>
        <p:spPr>
          <a:xfrm>
            <a:off x="152280" y="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19320" y="670572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33520" y="914400"/>
            <a:ext cx="39621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ot per homic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800600" y="990720"/>
            <a:ext cx="35812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ot equals 5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Spatial maps of homicide and low birth weight in Chica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90-19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407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“Collective Effica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s notions of trust and cohesion with shared expectations for intervening on behalf of commonly held goals (e.g., supervision/monitoring of childre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al rather than global—task-specific constr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not assume that strong ties are necessary precondition for social effi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s beyond stocks of “social capital” by incorporat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aking ac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066680" y="6019920"/>
            <a:ext cx="6553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97920" cy="68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Measurement of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 Contr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- would neighbors take action i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skipping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spray-painting graffi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fighting in front of your 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 showing disrespect to ad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ty going to close down local library or fire 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 Cohesion/Tru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-kn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get alo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same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vise and care for childr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round here willing to help their neighbors</a:t>
            </a:r>
            <a:r>
              <a:rPr b="1" lang="en-US" sz="2600" spc="-1" strike="noStrike">
                <a:solidFill>
                  <a:srgbClr val="6845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143000" y="662940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oll_eff_map"/>
          <p:cNvPicPr/>
          <p:nvPr/>
        </p:nvPicPr>
        <p:blipFill>
          <a:blip r:embed="rId1"/>
          <a:stretch/>
        </p:blipFill>
        <p:spPr>
          <a:xfrm>
            <a:off x="5105520" y="304920"/>
            <a:ext cx="358596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2280" y="380880"/>
            <a:ext cx="4953240" cy="1556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343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0920" y="2438280"/>
            <a:ext cx="39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Blue Are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d Are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w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990720" y="63244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28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nd informal soci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/Civic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generational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rocal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/moral cyn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children as competen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52280" y="380880"/>
            <a:ext cx="8839440" cy="94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mens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organization and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914400" y="60958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Interactions in families and communit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dolescent sexual initi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35880" y="22860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7084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33520" y="36576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mi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209320" y="2743200"/>
            <a:ext cx="20566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ener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dults know child’s 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867280" y="5638680"/>
            <a:ext cx="2362320" cy="6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SEXUAL INTER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1720" y="2666880"/>
            <a:ext cx="11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ident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762120" y="4495680"/>
            <a:ext cx="106668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ntr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25680" y="4343400"/>
            <a:ext cx="1676520" cy="67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trust, shared valu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80880" y="1447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2345760" y="3429000"/>
            <a:ext cx="18615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e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willingness to interve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133720" y="2209680"/>
            <a:ext cx="220968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439720" y="144792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4648320" y="220968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648320" y="29718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648320" y="3733920"/>
            <a:ext cx="190476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4648320" y="3048120"/>
            <a:ext cx="2057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not allowed to wa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572000" y="22860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ontact with child’s frie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7010280" y="2286000"/>
            <a:ext cx="17910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otional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4800600" y="14479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220968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5791320" y="4952880"/>
            <a:ext cx="12189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4"/>
          <p:cNvSpPr/>
          <p:nvPr/>
        </p:nvSpPr>
        <p:spPr>
          <a:xfrm>
            <a:off x="7086600" y="495288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4721760" y="380988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otional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7086600" y="5181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5791320" y="5181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7012080" y="144792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L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7010280" y="2895480"/>
            <a:ext cx="179100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4343400" y="4114800"/>
            <a:ext cx="1752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4343400" y="4114800"/>
            <a:ext cx="30481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662940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6629400" y="3657600"/>
            <a:ext cx="1447920" cy="15238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533520" y="4495680"/>
            <a:ext cx="144756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57200" y="350532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 flipH="1">
            <a:off x="373356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533520" y="251460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1981080" y="5257800"/>
            <a:ext cx="3962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334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0"/>
          <p:cNvSpPr/>
          <p:nvPr/>
        </p:nvSpPr>
        <p:spPr>
          <a:xfrm>
            <a:off x="1219320" y="65530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Significant outcomes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ing Young Citizen skits i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Young adolescents c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e freely and openly with adults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 adults some scientific facts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as effective as adults in educating the community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discrimination towards HIV posit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Parents should tell children about their HIV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Efforts be made to keep AIDS orphans in the commun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838080" y="5867280"/>
            <a:ext cx="6553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4:57:54Z</dcterms:created>
  <dc:creator>MC20</dc:creator>
  <dc:description/>
  <dc:language>en-US</dc:language>
  <cp:lastModifiedBy> </cp:lastModifiedBy>
  <dcterms:modified xsi:type="dcterms:W3CDTF">2008-10-10T18:16:29Z</dcterms:modified>
  <cp:revision>5</cp:revision>
  <dc:subject/>
  <dc:title>Felton (Tony) Earls Principal Investigator CHASE</dc:title>
</cp:coreProperties>
</file>